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99B-9D1F-4561-851F-9D1F66C0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200-734A-4AA1-85E4-FC588E2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416-A4D6-4D85-A84C-294DAA90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CB9-42CA-4829-A52C-406B33EF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263-FBE5-485D-AC7E-B12B3A1A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A5E-FCF6-4C99-812E-7431CE84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852-0533-4031-B58D-4FD6D3A8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358-85E7-4566-A32C-6DE6423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14C-DEA4-4C57-B16F-69F4B33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CF0-BF9A-40B9-B84A-9E44A03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3A2-0807-4597-8527-A279FBD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8B3-3DE4-4F30-B36C-0BB6DD0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153-E39B-4992-9CD1-D29216A3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7240"/>
            <a:ext cx="542916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027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1360" y="1066680"/>
            <a:ext cx="6084720" cy="38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8305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83908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406440"/>
            <a:ext cx="8991720" cy="115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11430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1430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1430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7631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769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2280" y="166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283212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9600" y="1295280"/>
            <a:ext cx="8524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7724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00:42Z</dcterms:created>
  <dc:creator>Graham</dc:creator>
  <dc:description/>
  <dc:language>en-US</dc:language>
  <cp:lastModifiedBy>Graham</cp:lastModifiedBy>
  <dcterms:modified xsi:type="dcterms:W3CDTF">2012-08-08T12:17:49Z</dcterms:modified>
  <cp:revision>3</cp:revision>
  <dc:subject/>
  <dc:title>Slide 1</dc:title>
</cp:coreProperties>
</file>